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38C-58A2-4D55-9D3F-0A3D1A42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E57-E4A6-464C-82BE-F10414E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7C2-E5D5-4A3D-910E-B0C5439A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927-59A1-4F28-A05B-CC767779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202-DF2C-4C93-BFED-EDE76DF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56-B4AA-443A-95B7-F01C333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337-74B2-4798-8475-1F7CA44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C6C-1527-46B8-A861-51CC297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8F2-34EA-4E11-B794-03DCD4C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57E-50A5-4BA5-BC61-54FBA46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01A-F302-41C0-B333-80E55DC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179-DFB1-4756-A0B9-E2E57C4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7B44-48D1-4400-8714-6F1622E2A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ZXpNBFo404" TargetMode="External"/><Relationship Id="rId2" Type="http://schemas.openxmlformats.org/officeDocument/2006/relationships/hyperlink" Target="http://www.youtube.com/watch?v=UJ3rlKh4utw" TargetMode="External"/><Relationship Id="rId3" Type="http://schemas.openxmlformats.org/officeDocument/2006/relationships/hyperlink" Target="http://www.youtube.com/watch?v=UJ3rlKh4utw" TargetMode="External"/><Relationship Id="rId4" Type="http://schemas.openxmlformats.org/officeDocument/2006/relationships/hyperlink" Target="http://www.youtube.com/watch?v=UJ3rlKh4utw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zrPYZ11jXw" TargetMode="External"/><Relationship Id="rId2" Type="http://schemas.openxmlformats.org/officeDocument/2006/relationships/hyperlink" Target="http://www.youtube.com/watch?v=NzrPYZ11jXw" TargetMode="External"/><Relationship Id="rId3" Type="http://schemas.openxmlformats.org/officeDocument/2006/relationships/hyperlink" Target="http://www.youtube.com/watch?v=NzrPYZ11jXw" TargetMode="External"/><Relationship Id="rId4" Type="http://schemas.openxmlformats.org/officeDocument/2006/relationships/hyperlink" Target="http://www.youtube.com/watch?v=jVoJg5BmyL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3333600"/>
            <a:ext cx="6477120" cy="360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88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élope Cruz L´Oréal Latino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ZXpNBFo4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cky Christina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UJ3rlKh4u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3333600"/>
            <a:ext cx="6477120" cy="360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88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ina y Serrat e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NzrPYZ11jX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jVoJg5Bmy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0:38:57Z</dcterms:created>
  <dc:creator>Owner</dc:creator>
  <dc:description/>
  <dc:language>en-US</dc:language>
  <cp:lastModifiedBy>Owner</cp:lastModifiedBy>
  <dcterms:modified xsi:type="dcterms:W3CDTF">2009-12-15T16:30:24Z</dcterms:modified>
  <cp:revision>4</cp:revision>
  <dc:subject/>
  <dc:title>Slide 1</dc:title>
</cp:coreProperties>
</file>